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EDD-D08C-4D33-9209-C54CC984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B457-FCA1-48FB-B8BF-FC31777E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848A-6EA8-4E4D-B4B6-8F0BB398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732A-AE3E-4022-80C5-3B5C2BB4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FD13-8CE1-4201-A337-EA53A686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1A4A-5E81-41E1-A98A-4CB8394F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564-563A-41B2-A968-BB6EE918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B00-5E77-4EF7-A398-876966A9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5E8-8C98-4351-B576-DAF477FE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37C0-1B2D-42D3-B07B-A1C86F5F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4A3-C730-4C89-98BB-FD02B372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525-F830-41D3-B534-5E83FD31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AC9F-81C2-48EA-901B-5D12BA995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6556320" cy="3962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369880" y="579132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rkley Fig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369880" y="579132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rkley Fig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74012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2369880" y="579132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rkley Fig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60376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51:40Z</dcterms:created>
  <dc:creator>Joel R. Hallas</dc:creator>
  <dc:description/>
  <dc:language>en-US</dc:language>
  <cp:lastModifiedBy>Joel R. Hallas</cp:lastModifiedBy>
  <dcterms:modified xsi:type="dcterms:W3CDTF">2009-02-12T19:02:50Z</dcterms:modified>
  <cp:revision>3</cp:revision>
  <dc:subject/>
  <dc:title>Slide 1</dc:title>
</cp:coreProperties>
</file>